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.jpeg" ContentType="image/jpeg"/>
  <Override PartName="/ppt/media/image10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9.png" ContentType="image/png"/>
  <Override PartName="/ppt/media/image13.wmf" ContentType="image/x-wmf"/>
  <Override PartName="/ppt/media/image11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11320" y="703440"/>
            <a:ext cx="4635360" cy="3474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3902A54-EC97-4B34-BD59-D185592D20A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6A61CD-3AD4-42FB-8AD6-A3F3D7FAF27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FFEBFB7-B10F-4817-A122-048A95A5A22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BC2701-AFAF-4EE7-9C40-9B07CF3A464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B6A4812-C409-4E83-99CE-97700DF85A4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155FB5-040E-40C6-AC30-2A5F02DB0F9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17BD1C-6B56-4B18-8EBC-544E40C06E1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34A3D0F-356D-4A59-904C-F8909D68379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0C501B0-6081-490B-9909-B875179E6A3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BE2CA9-4830-4756-9FD0-4EB0F257A23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9C5616-2456-4B4A-863C-6F858CF9875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8F2BF0E-08D0-40CF-88FD-63A265D253A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214D593-F554-413A-BBEA-451B19A14C7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53F9A3B-B5BB-42D0-BB84-E141FA3B419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F7A2680-D5B5-4B00-878C-0242008C6C5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D8DEC03-E36A-4AA3-8AC5-62B61A7BC8A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D4F64AE-3AA0-4617-9D21-B3B20F8D5C1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329DE63-0F42-4C05-8987-3F7F763394A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A18F587-48C4-46C2-AD02-19F04E2B883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CB1EDBC-7F31-42CD-90BC-6B8176B3BDB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448EEF7-7DDA-46F3-9FA0-E8E60E98DD9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93A4358-65D5-4980-8F8B-B14AD4156F2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0A65F0A-9907-4376-8FC3-2D9333B2F27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7EE2909-0705-462F-B7AA-8F86016A654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D0CB0A-8439-441F-9A4B-8091BA029BD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5E6B952-CF14-47D8-B44A-AD09E64297D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0DE68A7-E80F-4E43-8ED5-151972075EB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C8AEBDD-672E-4FD8-9176-6C9CD1D06E5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13DCB3-1258-4382-A7F8-F8E714C98D9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347EF0-7805-409C-A93B-F0CC581BA50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612097-66FD-4485-9C4D-D991DBC39BE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903F258-96E9-43DD-9528-3A3697E2C37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3254578-B9C9-4E69-B193-B7941F87CDD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6C684FE-5273-4ACE-B5D2-E641AE76878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AB33737-855F-4028-9320-9F91130AF10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450DA5B-EA13-4856-BFF9-1F0A58E777E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2DC12B1-3C46-41AD-88F1-0E220EACE04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E5ED5D9-6351-425F-B76A-34053466DD4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1902DB2-978D-4BED-B66F-90B5B1429F2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16402E3-B978-4BBF-92CB-A23497E5101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D952729-5094-49A1-B2AA-10DC145A46D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3515476-8755-4358-9DA4-94E38470A25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ADC327D-9F81-4862-8874-1D5DD70DF37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0DC1D6B-801B-4024-83B5-8ABF5666E3E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C36B613-6290-45A0-B64D-3771095FD2F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D1E9BEE-5A47-4CD4-B188-71C892CD8F7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2029C0-AA5A-4B02-8399-43D4C0A3A90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CEA6-CBEB-4087-BE04-D2D342C3C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2785-D70C-4168-B538-8D78F5B7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7489-4127-4F67-96F6-182FC2D57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93CD-E897-404C-9992-F926A72B6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FE8A-7146-4A61-8E1C-A1218FFA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BD06-4598-437E-8F3A-5C1EDF89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E468-26A5-4C17-A866-C99294B4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2B15-51C9-4115-8251-658CE6F8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784A-A486-4E09-A41F-FB90DD80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D68A-F4A7-4F36-A432-D3283078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A838-B2CC-4294-A7A9-02370BC0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D5C3-83B7-49B6-837D-F6DE1BAC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DAC2-332F-450B-91D4-ADEC756761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teachgrant.gov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arcadia.edu/calculator" TargetMode="External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fafsa.gov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ederalstudentaid.ed.gov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295280"/>
            <a:ext cx="899172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800" spc="-1" strike="noStrike">
                <a:solidFill>
                  <a:srgbClr val="abd8a8"/>
                </a:solidFill>
                <a:latin typeface="Berlin Sans FB"/>
              </a:rPr>
              <a:t>FINANCIAL AID:  </a:t>
            </a:r>
            <a:br>
              <a:rPr sz="4800"/>
            </a:br>
            <a:r>
              <a:rPr b="0" lang="en-US" sz="4800" spc="-1" strike="noStrike">
                <a:solidFill>
                  <a:srgbClr val="abd8a8"/>
                </a:solidFill>
                <a:latin typeface="Berlin Sans FB"/>
              </a:rPr>
              <a:t>Demystifying The Process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23619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0" y="42670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Presented by:  Dan Yannuzz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yannuzzi@arcadia.ed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Senior Assistant Director of Enrollment Manag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8" descr="ARCADIA PC LOGO small"/>
          <p:cNvPicPr/>
          <p:nvPr/>
        </p:nvPicPr>
        <p:blipFill>
          <a:blip r:embed="rId1"/>
          <a:stretch/>
        </p:blipFill>
        <p:spPr>
          <a:xfrm>
            <a:off x="2743200" y="5486400"/>
            <a:ext cx="3581280" cy="1193760"/>
          </a:xfrm>
          <a:prstGeom prst="rect">
            <a:avLst/>
          </a:prstGeom>
          <a:ln w="0">
            <a:noFill/>
          </a:ln>
        </p:spPr>
      </p:pic>
    </p:spTree>
  </p:cSld>
  <p:transition advTm="0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Whose Info. Is On the FAFSA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abd8a8"/>
                </a:solidFill>
                <a:latin typeface="Tahoma"/>
              </a:rPr>
              <a:t>Dependent: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  parental &amp; student financial data required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In cases of divorce or legal separation, complete with info of custodial parent (and his/her new spouse, if applicable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abd8a8"/>
                </a:solidFill>
                <a:latin typeface="Tahoma"/>
              </a:rPr>
              <a:t>Independent: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  student &amp; spouse financial data required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Student must meet one of following criteria to be considered independent: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4 years of 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eteran of the U.S. Armed For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tive Duty in Milita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ancipated minor or in a legal guardiansh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naccompanied youth who is homel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rolled in a graduate or professional progra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rri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rphan or ward of the court until age 1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ve legal dependents for which the student provides at least 50% of the suppo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4" descr="MCj02955550000[1]"/>
          <p:cNvPicPr/>
          <p:nvPr/>
        </p:nvPicPr>
        <p:blipFill>
          <a:blip r:embed="rId1"/>
          <a:stretch/>
        </p:blipFill>
        <p:spPr>
          <a:xfrm>
            <a:off x="152280" y="4800600"/>
            <a:ext cx="1725840" cy="1754280"/>
          </a:xfrm>
          <a:prstGeom prst="rect">
            <a:avLst/>
          </a:prstGeom>
          <a:ln w="0">
            <a:noFill/>
          </a:ln>
        </p:spPr>
      </p:pic>
    </p:spTree>
  </p:cSld>
  <p:transition advTm="0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Filing The FAFS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754380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-26568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ased on prior calendar year tax informa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ay use estimated income and tax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on’t wait to be accepted to college to complet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A residents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must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file by </a:t>
            </a:r>
            <a:r>
              <a:rPr b="1" lang="en-US" sz="3000" spc="-1" strike="noStrike">
                <a:solidFill>
                  <a:srgbClr val="abd8a8"/>
                </a:solidFill>
                <a:latin typeface="Tahoma"/>
              </a:rPr>
              <a:t>May 1</a:t>
            </a:r>
            <a:r>
              <a:rPr b="0" lang="en-US" sz="30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r state grant consideration for following fall term; state will follow up with studen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AKE COPIES OF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EVERY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FORM!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4" descr="MCj04039790000[1]"/>
          <p:cNvPicPr/>
          <p:nvPr/>
        </p:nvPicPr>
        <p:blipFill>
          <a:blip r:embed="rId1"/>
          <a:stretch/>
        </p:blipFill>
        <p:spPr>
          <a:xfrm>
            <a:off x="304920" y="4267080"/>
            <a:ext cx="1752480" cy="1752840"/>
          </a:xfrm>
          <a:prstGeom prst="rect">
            <a:avLst/>
          </a:prstGeom>
          <a:ln w="0">
            <a:noFill/>
          </a:ln>
        </p:spPr>
      </p:pic>
    </p:spTree>
  </p:cSld>
  <p:transition advTm="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Corrections to the FAFS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24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Receive colored SAR (Student Aid Report or summary of FAFSA information) 3-4 weeks later (link will be emailed if FAFSA filed on-line)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Review for corrections  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d additional colleges &amp;  make address corrections over phone 1-800-4FEDAID or on web using PIN #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ke all other corrections on SAR &amp; return it to Federal Student Aid Programs or use PIN # to make corrections on Interne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When Completing the FAFSA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mmon Mistakes To Avoi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e sure student uses his/her correct SS# as this </a:t>
            </a:r>
            <a:r>
              <a:rPr b="1" i="1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CAN NOT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be correcte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on’t leave questions blan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port only dollar amounts (not cents!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nter “U.S. income tax paid” (not U.S. income tax “withheld”!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 parent </a:t>
            </a:r>
            <a:r>
              <a:rPr b="1" i="1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AND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the student must sign form or use PIN # as e-signatur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Financial Ne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ahoma"/>
              </a:rPr>
              <a:t>Cost of Attendance (COA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ahoma"/>
              </a:rPr>
              <a:t>-</a:t>
            </a:r>
            <a:r>
              <a:rPr b="0" lang="en-US" sz="3600" spc="-1" strike="noStrike" u="sng">
                <a:solidFill>
                  <a:srgbClr val="00ffff"/>
                </a:solidFill>
                <a:uFillTx/>
                <a:latin typeface="Tahoma"/>
              </a:rPr>
              <a:t>Expected Family Contribution (EFC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ahoma"/>
              </a:rPr>
              <a:t>Financial Ne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st of Attendance typically includes tuition, fees, room &amp; board, books &amp; supplies, personal expenses and a transportation allow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What Is The EFC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asis of financial aid packag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FC=determined by a federal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ormula that calculates need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via the FAFS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FC &amp; Financial Need are guidelines used by schools to determine aid packag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FC not necessarily = to out-of-pocket cost of family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olleges will attempt to meet as much need as they can, but funding does have limits.                  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How Is The EFC Calculate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imary Factors Looked At: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xable Income:  AGI (wages earned+interest dividends+other taxable incom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taxed income &amp; benef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mber in family &amp; Number in Househo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mber of dependent children in colleg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726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ets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Treatment of Asse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 algn="ctr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ASSE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ssets:  includes cash/savings, value of other real estate and investments; excludes value of primary hom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set protection allowance acc. to age of oldest par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ex:-Oldest Parent’s Age=50, $52,900 of assets protected (if married; $20,500 if singl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2% of parents assets counted toward EF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0% of student’s assets counted beginning with 2007-2008 FAFSA, previously was 35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es not include: value of life insurance policies, retirement plans (ex.-IRA, 401k, or Keogh Pla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en reporting assets, investment debt cannot be greater than investment val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Institutional Methodolo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0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schools may require CSS Profile Fo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marily private schoo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lects supplemental data (i.e.-home equity, financial data of non-custodial parent, value or retirement plans, etc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culate IFC (Institutional Family Contribu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s for awarding institutional need-based a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Help!  Sources of Aid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ederal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t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College/Univers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utside Organiz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vic organizations (ex.-local Rotary Club), parent’s employer, high scho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fin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0"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Federal Govern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o qualify for Federal Aid, students MUST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a U.S. citizen or eligible non-citiz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e h.s. diploma or equivalent (GED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matriculating in a degree/certificate program at accredited Title IV scho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registered with Selective Service if a male between ages of 18 and 2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82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Pell Grant (need-based):         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x of $5,550/year in 2010-20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FC of $5,273 or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Federal Govern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deral Stafford Lo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deral Direct Loan Progr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nder is Department of Educatio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student’s name/no credit chec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ailable t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l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tudents, regardless of ne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payment begins 6 months following graduation or withdraw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xed 6.8% interest rate as of 7/1/20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est rate for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ubsidiz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oans for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undergraduate student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nly will be 3.4% for 2011-2012 school year,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ack to 6.8% aft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subsidized Loans remain at 6.8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Federal Govern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ahoma"/>
              </a:rPr>
              <a:t>STAFFORD LOAN, SUBSIDIZED VS. UNSUBSIDIZ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Tahoma"/>
              </a:rPr>
              <a:t>Subsidized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sed on financial ne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ovt. pays interest on loan while student is enroll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Tahoma"/>
              </a:rPr>
              <a:t>Unsubsidized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vailable to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AL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students, regardless of ne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erest paid either quarterly or capitalized upon repayment:  rate=currently 6.8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tafford amount caps by grad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$3,500 freshmen year + $2,000 Unsubsidiz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$4,500 sophomore year + $2,000 Unsubsidiz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$5,500 junior/senior year + $2,000 Unsubsidiz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Add’l. unsub available to students whose parent(s) are denied on PLUS Loan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Federal Govern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us Loan (Parent Loan for Dependent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loan in parent’s nam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interest cap of 9%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current rate:  7.9% Direct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repayment begins within 60 day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of 2</a:t>
            </a:r>
            <a:r>
              <a:rPr b="0" lang="en-US" sz="25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 disbursement coming in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to school, but may request deferral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credit check involved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borrow up to cost of attendance minus other financial aid student is receiving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3-4% Origination Fee typically applie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Federal Campus-Based Ai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82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Schools receive limited funds (i.e. a specific “pot” of money).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26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Student will not necessarily receive Campus-Based Aid from all schools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SEOG Grant-exceptional need-$100-4,000/yr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Perkins Loan-exceptional need-$100-3000/year; 5% interest rate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Federal Work Study: typically not deducted from bill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TEACH Gra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$4000 annually for 4 years as undergraduate; available for 2 years as graduate student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ust be in degree program taking coursework to prepare for a career in teach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ust annually sign Agreement to Serve (ATS), agreeing to teach 4 out of 8 years upon graduation in a low income school, in a high need fiel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ailure to meet teaching requirements causes grant to revert to a Direct Unsubsidized Stafford lo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t based on financial ne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isit 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www.teachgrant.gov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or more inform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State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nnsylvania State Grant (for PA Residents):  $3,541 max/year for 2010-2011 for students attending a PA scho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igibility based on the family’s EF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x PHEAA Grant that can transfer out-of-state, $600, to:  CT, DE, MA, ME, OH, RI, VT, DC, W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$400 maximum transfers to other states, except NJ, MD and NY--$0 transfers ther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mu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ile FAFSA by May 1 for upcoming fall ter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EAA sends student status notice beginning mid-May; student must complete and return to PHEA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pheaalogo"/>
          <p:cNvPicPr/>
          <p:nvPr/>
        </p:nvPicPr>
        <p:blipFill>
          <a:blip r:embed="rId1"/>
          <a:stretch/>
        </p:blipFill>
        <p:spPr>
          <a:xfrm>
            <a:off x="228600" y="228600"/>
            <a:ext cx="2438280" cy="1371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AES logo"/>
          <p:cNvPicPr/>
          <p:nvPr/>
        </p:nvPicPr>
        <p:blipFill>
          <a:blip r:embed="rId2"/>
          <a:stretch/>
        </p:blipFill>
        <p:spPr>
          <a:xfrm>
            <a:off x="5867280" y="228600"/>
            <a:ext cx="2971800" cy="1295280"/>
          </a:xfrm>
          <a:prstGeom prst="rect">
            <a:avLst/>
          </a:prstGeom>
          <a:ln w="0">
            <a:noFill/>
          </a:ln>
        </p:spPr>
      </p:pic>
    </p:spTree>
  </p:cSld>
  <p:transition advTm="0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Sta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bert Byrd Scholarship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$1,500 per year for four yea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Eligibility Requirements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op 5% of graduating class or ranked 1, 2, or 3 in a class of 60 or les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3.5 GPA on 4.0 scal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AT’s:  1150 or better (Critical Reading and Math Combined) or ACT Composite Score of 25 or bette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U.S. Citizen and Pennsylvania Resident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Completed Application (see high school guidance office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May 1st filing deadline for FAFSA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Other State Ai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ETS Scholarship:  at least sophomore, 3.0 cum GPA, PA resident, graduate of PA high school enrolled full-time in approved science or technology bachelor’s degree program ($3,000 max/year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echnology Scholarship:  PA resident, graduate of PA high school enrolled at least part-time in an associate’s degree program or equivalent, 3.0 cum ($1,000 max/year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ust agree to work in PA following graduation, one year for each year of gra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pply at www.aessuccess.org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College/Univer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tors that may influence institutional aid, particularly merit-based ai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ademic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hletic Ability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T’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ographic D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 Cours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gacy (child of alumn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ademic Trac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l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der/Ethnic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.S. Atten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ss Ran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v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*Athletic awards offered by NCAA Division I and Division II schools only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fin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0">
    <p:checke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College/Univer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vestigate sources of Merit-Aid fir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How &amp; When To Apply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Criteria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Limited number?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Renewable? 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iteria for renew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College/Univer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34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vestigate Sources of Need-Based Ai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&amp; When To App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ite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-apply every y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hat factors will cause change? (i.e.-number in college, income increase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Beware:  Bait/Hook &amp; Switch Tactic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What Happens Next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ceive financial aid award letter from each college/univers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posit at college of choice (non-refundable usuall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y 1=Candidate Reply Dat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ile for any loa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vestigate payment pla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State vs. Private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schools:  lower cost with lower or no endowment; Private schools:  higher cost with higher endow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ten translates into more sources of institutional grant/scholarship aid at private schools and, maybe even lower cos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deral Pell Grant and PHEAA State Grant may be reduced at state institution due to lower CO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’t rule out private institutions just due to CO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State vs. Priva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724280" cy="40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ad8e"/>
                </a:solidFill>
                <a:latin typeface="Tahoma"/>
              </a:rPr>
              <a:t>XYZ State School: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$13,684 tuition/R&amp;B*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-$3,500 Stafford Loa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99"/>
                </a:solidFill>
                <a:latin typeface="Tahoma"/>
              </a:rPr>
              <a:t>$10,184 Cos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ahoma"/>
              </a:rPr>
              <a:t>*In-state studen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95320" y="190512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ad8e"/>
                </a:solidFill>
                <a:latin typeface="Tahoma"/>
              </a:rPr>
              <a:t>Private Schoo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$23,000 tuition/R&amp;B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-$10,000 school gra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-$3,500 Stafford Loa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99"/>
                </a:solidFill>
                <a:latin typeface="Tahoma"/>
              </a:rPr>
              <a:t>$9,500 Cos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Comparing Aid Off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Look at same “bottom line” for each school.  Compare “apples” to “apples.”        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bd8a8"/>
                </a:solidFill>
                <a:latin typeface="Tahoma"/>
              </a:rPr>
              <a:t>Consider: 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26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What is amount of loan in package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vs. amount of grant?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26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What is amount of work study?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26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Are grants/scholarships automatically renewable?  If so, what are criteria?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6" descr="j0300840"/>
          <p:cNvPicPr/>
          <p:nvPr/>
        </p:nvPicPr>
        <p:blipFill>
          <a:blip r:embed="rId1"/>
          <a:stretch/>
        </p:blipFill>
        <p:spPr>
          <a:xfrm>
            <a:off x="7162920" y="3429000"/>
            <a:ext cx="1814400" cy="1528920"/>
          </a:xfrm>
          <a:prstGeom prst="rect">
            <a:avLst/>
          </a:prstGeom>
          <a:ln w="0">
            <a:noFill/>
          </a:ln>
        </p:spPr>
      </p:pic>
    </p:spTree>
  </p:cSld>
  <p:transition advTm="0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Comparing Aid Off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 package change if outside scholarships are received?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factors will cause change?  (i.e.-number in college, income increas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ware:  Bait/Hook &amp; Switch Tac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re room for movement?  Check with the F.A. Office—there might be but it’s not “Let’s Make A Deal!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Comparing Aid Off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1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i="1" lang="en-US" sz="2400" spc="-1" strike="noStrike" u="sng">
                <a:solidFill>
                  <a:srgbClr val="00ffff"/>
                </a:solidFill>
                <a:uFillTx/>
                <a:latin typeface="Tahoma"/>
              </a:rPr>
              <a:t>School 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i="1" lang="en-US" sz="2400" spc="-1" strike="noStrike" u="sng">
                <a:solidFill>
                  <a:srgbClr val="00ffff"/>
                </a:solidFill>
                <a:uFillTx/>
                <a:latin typeface="Tahoma"/>
              </a:rPr>
              <a:t>School B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i="1" lang="en-US" sz="2400" spc="-1" strike="noStrike" u="sng">
                <a:solidFill>
                  <a:srgbClr val="00ffff"/>
                </a:solidFill>
                <a:uFillTx/>
                <a:latin typeface="Tahoma"/>
              </a:rPr>
              <a:t>School 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66"/>
                </a:solidFill>
                <a:latin typeface="Tahoma"/>
              </a:rPr>
              <a:t>Co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$6,000                    $15,000                         $30,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66"/>
                </a:solidFill>
                <a:latin typeface="Tahoma"/>
              </a:rPr>
              <a:t>EF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$3,000                    $3,000                             $3,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Tahoma"/>
              </a:rPr>
              <a:t>Need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  $3,000                   $12,000                          $27,000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Pkg. #1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$2,500 Grants          $11,500 Grants                   $26,500 Grants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$3,500 Loans           $3,500 Loans                      $ 3,500 Loans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Pkg. #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$1,500 Grants          $7,000 Grants                    $14,000 Gra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$4,500 Loans           $7,000 Loans                     $15,000 Lo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                                      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$1,000 Work                      $ 1,000 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Pkg. #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$1,000 Grants          $4000 Grants                     $ 5,000 Gra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$3,500 Loans           $9,000 Loans                     $23,500 Lo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$1,500  Work           $2,000 Work                      $ 1,500 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Financing Op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ederal PLUS Loa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ternative Loans (in student’s name)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ome Equity Loan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est payments tax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ductible (loans&lt;$100,00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ndividual college payment plans-many are interest free with nominal one-time fe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401(k) Retirement Accoun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ash value of life insurance polici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Outside Sour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vate sources of scholarship funds includ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rvice/Fraternal Organiz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ployers/Busines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urches/Religious Group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urces of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ernet:  see </a:t>
            </a:r>
            <a:r>
              <a:rPr b="1" lang="en-US" sz="2000" spc="-1" strike="noStrike" u="sng">
                <a:solidFill>
                  <a:srgbClr val="abd8a8"/>
                </a:solidFill>
                <a:uFillTx/>
                <a:latin typeface="Tahoma"/>
              </a:rPr>
              <a:t>www.pasfaa.or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or helpful websites Books:  Peterson’s Guide, Barron’s Guide to Colleges, “Don’t Miss Out” (Octameron Asso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uidance Office Computer Progra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stWeb: www.fastweb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5" descr="bs02060_"/>
          <p:cNvPicPr/>
          <p:nvPr/>
        </p:nvPicPr>
        <p:blipFill>
          <a:blip r:embed="rId1"/>
          <a:stretch/>
        </p:blipFill>
        <p:spPr>
          <a:xfrm>
            <a:off x="7515360" y="2133720"/>
            <a:ext cx="1628640" cy="1839960"/>
          </a:xfrm>
          <a:prstGeom prst="rect">
            <a:avLst/>
          </a:prstGeom>
          <a:ln w="0">
            <a:noFill/>
          </a:ln>
        </p:spPr>
      </p:pic>
    </p:spTree>
  </p:cSld>
  <p:transition advTm="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Introduction</a:t>
            </a:r>
            <a:r>
              <a:rPr b="0" lang="en-US" sz="4400" spc="-1" strike="noStrike">
                <a:solidFill>
                  <a:srgbClr val="458d3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Talk The Talk:  Financial Aid Lingo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The Application Process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Sources of Financial Aid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Sticker Shock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Comparing Aid Offers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Outside Sour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using services like FastWeb, you create a profile that helps to locate scholarships you qualify f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 of their listing of 1.5 million scholarships, you will receive a “short list” of any that match with your prof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ore information you put in your profile, the better your results will 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Outside Sour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ngs to remember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organization has their own application/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someone read your essay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ve all your essays, you may be able to reuse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rule out smaller scholarship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Education Tax Credi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d8a8"/>
                </a:solidFill>
                <a:latin typeface="Tahoma"/>
              </a:rPr>
              <a:t>American Opportunity Tax Cred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ailable for four years of undergraduate study for dependents enrolled at least half-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ducted from family’s actual tax lia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x tax credit of $2,500/year per student for anything paid out of pocket for tuition, fees, and books for prior ye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lers who don’t earn enough to owe any taxes can get refund checks for 40% of their tuition and books expenses up to $1,000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ome cutoff:  $80,000 single filer; $160,000 for joint fil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Education Tax Incentiv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abd8a8"/>
                </a:solidFill>
                <a:uFillTx/>
                <a:latin typeface="Tahoma"/>
              </a:rPr>
              <a:t>LifeTime Learning Tax Credi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4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n claim up to 20% of first $10,000 paid out-of-pocket for tuition and fees paid after January 1, 2010 (for 2010 taxes) or  maximum tax credit of $2,000/year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4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amily based (unlike American Opportunity Credit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4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n’t claim American Opportunity &amp; Lifetime credits on the same stude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4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or more information visit </a:t>
            </a:r>
            <a:r>
              <a:rPr b="1" lang="en-US" sz="2600" spc="-1" strike="noStrike" u="sng">
                <a:solidFill>
                  <a:srgbClr val="abd8a8"/>
                </a:solidFill>
                <a:uFillTx/>
                <a:latin typeface="Tahoma"/>
              </a:rPr>
              <a:t>www.irs.ustreas.gov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bd8a8"/>
                </a:solidFill>
                <a:latin typeface="Tahoma"/>
              </a:rPr>
              <a:t>Tuition &amp; Fees Deduction off AG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What To Do NOW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ck with colleges/universities on early financial aid estimate services offe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.E.-Arcadia University online calculator (free and easy online financial aid calculator located at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www.arcadia.edu/calculat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earch Outside Scholarshi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idance Off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cal Libra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net-see hand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bd8a8"/>
                </a:solidFill>
                <a:uFillTx/>
                <a:latin typeface="Tahoma"/>
              </a:rPr>
              <a:t>www.fastweb.c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5" descr="MCj03983230000[1]"/>
          <p:cNvPicPr/>
          <p:nvPr/>
        </p:nvPicPr>
        <p:blipFill>
          <a:blip r:embed="rId2"/>
          <a:stretch/>
        </p:blipFill>
        <p:spPr>
          <a:xfrm>
            <a:off x="6629400" y="4038480"/>
            <a:ext cx="1809720" cy="1827360"/>
          </a:xfrm>
          <a:prstGeom prst="rect">
            <a:avLst/>
          </a:prstGeom>
          <a:ln w="0">
            <a:noFill/>
          </a:ln>
        </p:spPr>
      </p:pic>
    </p:spTree>
  </p:cSld>
  <p:transition advTm="0">
    <p:cover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Remember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filing the FAFSA use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www.fafsa.go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afsa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58d3f"/>
                </a:solidFill>
                <a:uFillTx/>
                <a:latin typeface="Tahoma"/>
              </a:rPr>
              <a:t>MAY 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!  It’s the deadline for State Aid conside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’s never too early to begin researching outside scholarships- just be cautious about services that charge you money to find you mon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id offices will often be willing to help you with questions, don’t be afraid to as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The End..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ff"/>
                </a:solidFill>
                <a:latin typeface="Tahoma"/>
              </a:rPr>
              <a:t>Thank You For Coming!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6" descr="Castle"/>
          <p:cNvPicPr/>
          <p:nvPr/>
        </p:nvPicPr>
        <p:blipFill>
          <a:blip r:embed="rId1"/>
          <a:stretch/>
        </p:blipFill>
        <p:spPr>
          <a:xfrm>
            <a:off x="2057400" y="2590920"/>
            <a:ext cx="5257800" cy="37922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3200400" y="1371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annuzzi@arcadia.ed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Financial Ai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inancial Aid=Assistance for students to fund their education in the form of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8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Grant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8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Scholarship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8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Loan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8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Employment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8" name="Object 4"/>
          <p:cNvGraphicFramePr/>
          <p:nvPr/>
        </p:nvGraphicFramePr>
        <p:xfrm>
          <a:off x="5486400" y="2971800"/>
          <a:ext cx="274320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971800"/>
                    <a:ext cx="274320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Merit-Based Aid vs. Need-Based Ai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abd8a8"/>
                </a:solidFill>
                <a:latin typeface="Tahoma"/>
              </a:rPr>
              <a:t>Merit-Based Aid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=aid given to students strictly on the basis of merit.  May be based on: 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ademic record          Special characteristics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kills or talents             Involv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-Does not have to be repaid; usually renewable from year to year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abd8a8"/>
                </a:solidFill>
                <a:latin typeface="Tahoma"/>
              </a:rPr>
              <a:t>Need-Based Aid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=aid awarded to students on the basis of financial need.  Re-evaluated each year as financial situations may chang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What Is The FAFSA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120" y="1523520"/>
            <a:ext cx="66200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FSA=Free Application For Federal Student A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cation for federal and state aid (may be application for college aid as well, depending upon the schoo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rent/Student Sections color-cod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le one FAFSA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per yea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per student (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one per colleg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st up to ten colleges--Title IV Code or school name; schools receive info. electronicall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4" descr="Free application for Federal Student Aid (FAFSA) on the Web logo: We Help Put America Through School"/>
          <p:cNvPicPr/>
          <p:nvPr/>
        </p:nvPicPr>
        <p:blipFill>
          <a:blip r:embed="rId1"/>
          <a:stretch/>
        </p:blipFill>
        <p:spPr>
          <a:xfrm>
            <a:off x="152280" y="4876920"/>
            <a:ext cx="2438640" cy="1447560"/>
          </a:xfrm>
          <a:prstGeom prst="rect">
            <a:avLst/>
          </a:prstGeom>
          <a:ln w="0">
            <a:noFill/>
          </a:ln>
        </p:spPr>
      </p:pic>
    </p:spTree>
  </p:cSld>
  <p:transition advTm="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90440"/>
            <a:ext cx="86104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How/When to File the FAFSA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2257560"/>
            <a:ext cx="815328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ys To Complete the FAFS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n-line at </a:t>
            </a:r>
            <a:r>
              <a:rPr b="1" lang="en-US" sz="2200" spc="-1" strike="noStrike" u="sng">
                <a:solidFill>
                  <a:srgbClr val="abd8a8"/>
                </a:solidFill>
                <a:uFillTx/>
                <a:latin typeface="Tahoma"/>
              </a:rPr>
              <a:t>www.fafsa.gov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(this is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STRONGLY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encouraged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ownload pdf version of FAFSA at </a:t>
            </a:r>
            <a:r>
              <a:rPr b="0" lang="en-US" sz="2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www.FederalStudentAid.ed.gov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lete as soon as possible afte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January 1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y filing electronically at </a:t>
            </a:r>
            <a:r>
              <a:rPr b="1" lang="en-US" sz="2400" spc="-1" strike="noStrike" u="sng">
                <a:solidFill>
                  <a:srgbClr val="abd8a8"/>
                </a:solidFill>
                <a:uFillTx/>
                <a:latin typeface="Tahoma"/>
              </a:rPr>
              <a:t>www.fafsa.gov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ginning January 1, prior to the fall for which student seeks ai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FAFSA On The Web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filing over the Internet, 2 choic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en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udent mail signature page i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2800" spc="-1" strike="noStrike" u="sng">
                <a:solidFill>
                  <a:srgbClr val="abd8a8"/>
                </a:solidFill>
                <a:uFillTx/>
                <a:latin typeface="Tahoma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en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udent apply for PIN # at </a:t>
            </a:r>
            <a:r>
              <a:rPr b="1" lang="en-US" sz="2800" spc="-1" strike="noStrike" u="sng">
                <a:solidFill>
                  <a:srgbClr val="abd8a8"/>
                </a:solidFill>
                <a:uFillTx/>
                <a:latin typeface="Tahoma"/>
              </a:rPr>
              <a:t>www.pin.ed.go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N # serves as e-signa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N # will be mailed or e-mailed ahead of time to stud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PIN # to submit info. and make corrections, sign promissory no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5:24Z</dcterms:created>
  <dc:creator>Enrollment Management</dc:creator>
  <dc:description/>
  <dc:language>en-US</dc:language>
  <cp:lastModifiedBy>Daniel Yannuzzi</cp:lastModifiedBy>
  <cp:lastPrinted>1998-07-21T16:21:22Z</cp:lastPrinted>
  <dcterms:modified xsi:type="dcterms:W3CDTF">2010-11-10T16:16:24Z</dcterms:modified>
  <cp:revision>92</cp:revision>
  <dc:subject/>
  <dc:title>Training</dc:title>
</cp:coreProperties>
</file>